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BB8-598E-428C-AA03-B7A94703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E58-7A19-468A-ADB9-B98F304C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295-0632-42FF-ADD4-A8A00D66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AB5-6F70-4384-8A96-B6407430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B691-C2B0-49D7-8095-9494853B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C3E1-0C49-44EF-8FFE-A8AC4BCC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6625-165F-48AE-BD45-025A7B62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2520-A8A1-49F5-8871-24201183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A72C-3476-4C6F-9C15-DA918CAC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EFAA-54B6-407C-BBBF-D0734B78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78DB-EC67-4646-9436-5C181141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CFD-0877-4902-802A-5CFE4E12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9856-6190-44F1-A6A6-DB67E570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4EE7-CB5D-4F61-9824-7AFFF8E7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80D9-9EDD-46E6-A6FF-63019C25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8C63-A651-4A25-8DEE-CF56E472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FB6C-5C8E-490B-A0E6-BD31FF09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4F4E-A588-466E-81ED-F3358662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3318-5FF4-49E4-B747-212F7F22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DAC3-FCC3-4833-9821-0A5B60A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3F65-73A9-4489-A892-249B0E9A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7E12-FD23-4577-987D-CC43DA83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A69-0749-4BF5-93FB-B05E847E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6F50-825A-4E72-A32F-6393EC7C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723B-E35C-44B8-A215-B4B645CB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C620-734D-4FB9-9653-7861F3A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B89CE-ECA9-4F96-8EBC-A18A38B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E3D6-0103-4022-A40E-45FB8232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1A7C-738D-45B0-B143-54FACF8F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3351-6ACA-4009-BB75-B1C21948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E3072-F137-4C9A-940A-E6806D78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D7990-C312-499C-9ABD-1BE391C4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BA674-44EB-4515-8EE2-8237813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84D-2919-418C-B4E9-16CBC3D5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F682-040E-4CB0-A574-E2DAA4DE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06A3-1113-4027-9C6B-47733BD1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ABCBC-6694-465B-B8C6-4AE95C99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7A6C-0B3F-43E1-A3CC-64544A4F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8CD6-24A2-4F20-8EB5-B330E08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6EFE4-406F-4F7D-9FE8-F7A55D3D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B41B-83E5-40B3-868E-FA0A94E8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30F1E-B8E0-4C05-B368-67698ACD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0DC0-A886-4811-9306-CFA74FE2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FD3-55D9-4E0C-A757-0DA2E9EE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53A-56B3-4AAC-B7B5-622F59CE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49A-46D6-49AD-82CE-6EFB4F7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00A-36F3-440B-BB52-24B54BF6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000-815F-4B39-8C1E-1B7DCA4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9C83-421A-40E2-97D1-67BD3480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DFFE-44E5-4143-A78D-082D2235D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6ED2-8A80-4E1B-A960-1666CBAB2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C57D-BA0A-42B6-B471-2F94269EE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139920" cy="32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447920" y="914400"/>
            <a:ext cx="66294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Vowels in Bloom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800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16765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hi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ea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Comic Sans MS"/>
              </a:rPr>
              <a:t>Dir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if the word has a long vowel or short vowel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t has a long sound choose the rule that it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tree with your correc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ry it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105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1080" y="194940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4267080" y="50292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Wow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I can see your growth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la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ras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lc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hee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4267080"/>
            <a:ext cx="342900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're really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7fc654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BLOOMING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7fc654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re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“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562720" y="434340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vowels w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u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00400" y="2286000"/>
            <a:ext cx="403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7680600">
            <a:off x="3581280" y="14475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13919400">
            <a:off x="6018840" y="15238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781280" y="457200"/>
            <a:ext cx="5914800" cy="6172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5073000">
            <a:off x="213372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5569200">
            <a:off x="2209680" y="2133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rot="5569200">
            <a:off x="2514240" y="15998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7680600">
            <a:off x="2971080" y="1066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7680600">
            <a:off x="3428280" y="7614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5350200">
            <a:off x="408276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350200">
            <a:off x="4762080" y="6472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3919400">
            <a:off x="5561640" y="6858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13919400">
            <a:off x="6247440" y="91440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3919400">
            <a:off x="6704640" y="1218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16030800">
            <a:off x="69339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rot="5569200">
            <a:off x="7086240" y="22093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5073000">
            <a:off x="708624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5073000">
            <a:off x="701064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073000">
            <a:off x="6782040" y="4038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7680600">
            <a:off x="3428280" y="23616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3919400">
            <a:off x="5256360" y="20570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350200">
            <a:off x="5828760" y="28573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7680600">
            <a:off x="42670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350200">
            <a:off x="4838400" y="14094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7680600">
            <a:off x="3124080" y="3504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rot="13919400">
            <a:off x="5866560" y="16761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7680600">
            <a:off x="4114080" y="144720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905120" y="3200400"/>
            <a:ext cx="548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SCORE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You have really blosomed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 rot="13918800">
            <a:off x="6158520" y="20077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 rot="13918800">
            <a:off x="6450480" y="233964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7680600">
            <a:off x="3504960" y="1752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7680600">
            <a:off x="2895480" y="1981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7680600">
            <a:off x="2895480" y="26668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7680600">
            <a:off x="3656880" y="2895120"/>
            <a:ext cx="228600" cy="38124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7680600">
            <a:off x="3504960" y="33526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5350200">
            <a:off x="4685760" y="201888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5350200">
            <a:off x="4533480" y="2628720"/>
            <a:ext cx="30456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5350200">
            <a:off x="4381200" y="3238200"/>
            <a:ext cx="304920" cy="22860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7680600">
            <a:off x="4419360" y="9903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 rot="13919400">
            <a:off x="5561640" y="23619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 rot="13919400">
            <a:off x="4952160" y="28954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3919400">
            <a:off x="5409360" y="312408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rot="13919400">
            <a:off x="5561640" y="1447560"/>
            <a:ext cx="228600" cy="380880"/>
          </a:xfrm>
          <a:prstGeom prst="ellipse">
            <a:avLst/>
          </a:prstGeom>
          <a:solidFill>
            <a:srgbClr val="e353c1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c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915160" cy="6172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5073000">
            <a:off x="2362320" y="396216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073000">
            <a:off x="2133720" y="3352680"/>
            <a:ext cx="228600" cy="380880"/>
          </a:xfrm>
          <a:prstGeom prst="ellipse">
            <a:avLst/>
          </a:prstGeom>
          <a:solidFill>
            <a:srgbClr val="e389c0"/>
          </a:solidFill>
          <a:ln w="9360">
            <a:solidFill>
              <a:srgbClr val="ffc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6858000" y="54864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7fc6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00400" y="22860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1219320" y="4343400"/>
            <a:ext cx="1904760" cy="838080"/>
          </a:xfrm>
          <a:custGeom>
            <a:avLst/>
            <a:gdLst>
              <a:gd name="textAreaLeft" fmla="*/ 54000 w 1904760"/>
              <a:gd name="textAreaRight" fmla="*/ 1850760 w 19047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0" h="21600">
                <a:moveTo>
                  <a:pt x="0" y="0"/>
                </a:moveTo>
                <a:lnTo>
                  <a:pt x="49080" y="0"/>
                </a:lnTo>
                <a:lnTo>
                  <a:pt x="49080" y="21600"/>
                </a:lnTo>
                <a:lnTo>
                  <a:pt x="0" y="21600"/>
                </a:lnTo>
                <a:close/>
              </a:path>
              <a:path fill="lightenLess" w="49080" h="21600">
                <a:moveTo>
                  <a:pt x="0" y="0"/>
                </a:moveTo>
                <a:lnTo>
                  <a:pt x="49080" y="0"/>
                </a:lnTo>
                <a:lnTo>
                  <a:pt x="47680" y="1400"/>
                </a:lnTo>
                <a:lnTo>
                  <a:pt x="1400" y="1400"/>
                </a:lnTo>
                <a:close/>
              </a:path>
              <a:path fill="darken" w="49080" h="21600">
                <a:moveTo>
                  <a:pt x="49080" y="0"/>
                </a:moveTo>
                <a:lnTo>
                  <a:pt x="49080" y="21600"/>
                </a:lnTo>
                <a:lnTo>
                  <a:pt x="47680" y="20200"/>
                </a:lnTo>
                <a:lnTo>
                  <a:pt x="47680" y="1400"/>
                </a:lnTo>
                <a:close/>
              </a:path>
              <a:path fill="darkenLess" w="49080" h="21600">
                <a:moveTo>
                  <a:pt x="4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0" y="20200"/>
                </a:lnTo>
                <a:close/>
              </a:path>
              <a:path fill="lighten" w="4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1722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bd1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0:49:32Z</dcterms:created>
  <dc:creator>Howard County Public Schools</dc:creator>
  <dc:description/>
  <dc:language>en-US</dc:language>
  <cp:lastModifiedBy>Howard County Public Schools</cp:lastModifiedBy>
  <dcterms:modified xsi:type="dcterms:W3CDTF">2010-04-14T15:03:27Z</dcterms:modified>
  <cp:revision>8</cp:revision>
  <dc:subject/>
  <dc:title>PowerPoint Presentation</dc:title>
</cp:coreProperties>
</file>